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F34-771B-4361-96FC-8ACCDE05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6B0-751B-4254-BFC2-E415AD1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FD3-71F9-4671-8935-AE4919FA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8A7-6DFA-4B87-839E-18196665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B05-2A3A-42CD-BF57-8D63C4D5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02D-B460-4593-ADE1-7F6ECDE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54D-ECE0-46D9-8398-DC00BA8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72A-645E-4D23-B30C-ACDE39CE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623-AAFE-41AF-AA1F-9F0B2E36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0AD-D4E5-4D95-BE64-99DDEBD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01A-7D60-4A8E-B671-BC05E52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3EE-E571-4176-8AA1-0FD3A1E3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E358-A70C-4D56-BD9B-D341C060D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做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ppt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前请仔细阅读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571480"/>
            <a:ext cx="853596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可以按照本模板格式制作，也可使用自己的模板，但内容需涵盖本模板所有要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.PP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一定要清晰，每页文字不宜过多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重点介绍对受试者合法权益的保障、风险把控等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项目汇报时间控制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分钟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发生不良事件的处理预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介绍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三、知情同意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研究中收集的信息和生物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参加研究风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研究期间，您可能会发生一些、所有或者不发生这些不良事件（病人或临床试验受试者接受一种药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医疗器械等试验产品后出现的不良医学事件）、风险、不适、不方便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参加研究受益情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直接受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潜在受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备选治疗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介绍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研究所用的药物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器械及相关检查费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必须详细阐明哪些试验用药、器械、检查、护理费用和常规用药、器械、检查、护理费用是申办方免费提供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参加本研究给受试者带来潜在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额外花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对这些花费他们也不会得到补偿），请务必在此部分阐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参加研究的补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参与本研究所花费的开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如您的交通费和额外采血的营养费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您将得到（根据研究情况填写）人民币的补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发生损伤后的补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赔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发生与该项研究相关的损伤，您可以获得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注明由谁提供，如申办方或研究单位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供的免费治疗，并按中国有关法律进行补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赔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如果有购买保险，请将保险的基本情况告知，保险覆盖不了的范围，由申办方承担补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赔偿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研究结果的使用和个人信息的保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受试者的权利和相关注意事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项目名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46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四、其他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内容占位符 2"/>
          <p:cNvSpPr/>
          <p:nvPr/>
        </p:nvSpPr>
        <p:spPr>
          <a:xfrm>
            <a:off x="611280" y="1608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招募广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招募内容、招募地点（门诊、病房等）、招募手段（海报、易拉宝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宣传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日记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一、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单介绍背景控制在一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二、研究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既往研究中的疗效及不良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研究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介绍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入、排及中途退出标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介绍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研究步骤及相关检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介绍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终点指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请注明研究的主要终点指标；有效性、安全性评估的内容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介绍控制在一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合并用药和治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涉及可删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1:27:00Z</dcterms:created>
  <dc:creator>Lenovo User</dc:creator>
  <dc:description/>
  <dc:language>en-US</dc:language>
  <cp:lastModifiedBy>杨毅</cp:lastModifiedBy>
  <dcterms:modified xsi:type="dcterms:W3CDTF">2025-01-03T07:17:16Z</dcterms:modified>
  <cp:revision>33</cp:revision>
  <dc:subject/>
  <dc:title>项目题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C59BA2F3FB94DBDB68CCF2A9B37D082</vt:lpwstr>
  </property>
  <property fmtid="{D5CDD505-2E9C-101B-9397-08002B2CF9AE}" pid="3" name="KSOProductBuildVer">
    <vt:lpwstr>2052-12.1.0.19770</vt:lpwstr>
  </property>
</Properties>
</file>